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AF0-3CD5-46B1-B220-D8E23C58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66A-52AE-4008-901B-048AE9A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6C3-4E31-4508-92C1-FFF10F23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1B7-76C7-4065-8780-C5038A2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BD-60F7-4F8D-B74A-C5622E1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E99-1BB5-40A3-8876-F51A220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6E0-7E5B-4B50-BAC9-9CA4CF1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BE8-909E-4D75-B5E9-A025584C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DEA-5D5A-4959-977A-C9F4657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D01-20BA-4771-AD69-FDDA898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811-AE08-44DE-9A74-7C18394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32B-0607-4FFA-9646-7DA9CB7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5A1-45BD-4075-8310-E065B21D1A6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6 Skôr ako Pán, 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ôr ako Pán, 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riechy sveta na smrť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ieb pri večeri s vďakou vz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učeníkom po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ieb hodu tohto znak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oh svet až tak mil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yna svojho na smrť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človek večný život m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án za kalich vďaku vz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iť z neho učeníkom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nak, že v jeho krvi 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 novej zmluv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chce raz s Pánom sto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rť jeho má vždy zvest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akať, kým sa nezjav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vojich potom osláv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15:56Z</dcterms:modified>
  <cp:revision>29</cp:revision>
  <dc:subject/>
  <dc:title>Je veľký náš Pán, on slávy je Kráľ Nech do všetkých strán  spev vrúcnych znie chvál.</dc:title>
</cp:coreProperties>
</file>